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C78-2004-4315-BC4D-E7D9007A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A23-30A2-4D12-80D6-A62DA8C6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AE0-D64E-4CB6-817E-8744D71E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0BD-0DA1-4997-A9AC-7DDC26CB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3E63-53E1-47DB-962A-AB2BDED3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458E-05E3-43BB-BC03-DEB13C3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0BA-B908-4C51-851A-963659B2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A679-2F00-45FF-B6EF-88200A1D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78C8-19B6-4042-BAFD-0650B367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821D-399F-4179-A822-9C4110E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EAE8-8168-44FB-83DE-1DC9400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DFE-65A7-4C6F-8F5F-5B18148A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52AB-D250-4CD5-BC8D-B1155207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7515-3499-4F8A-BB12-DB3F000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E47B-FF42-4F33-B65A-CB88D149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AE83-BAE3-4F39-BCCC-45B0C1E6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28F3-58AF-4EC4-AAA9-A419E4A2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F65-90A1-4DD8-A81A-537A3AB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4CC-CD9F-442E-868D-D8260B57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46F-CEC7-4F75-8C94-D6770C8D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D19-FF1C-4522-919E-7B96A11D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BDE-FF12-4B30-9A0F-4E469F7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8AE-7C30-492B-B230-6AC6F0F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C78-8EC4-44ED-86B1-CCF3B6E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7453-F0ED-455D-8C13-E87412F791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8169-4FFC-4E30-99EF-E40F730ED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ebra 2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13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Five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quaring binomials and the difference of two squa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quare a binomi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 square the first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multiply the two terms together and multiply by 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square the last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product two binomials that differ only in sign: (a-b)(a+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Square the first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Square the second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Connect the two with a min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r ass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. 473 #1-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for ex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*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+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otient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-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rules for ex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-Powe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otient-Powe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/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rder of Oper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ember to following the order of operat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to use parentheses when appropriate on the calcu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ypes of Polynomials and their degre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monom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te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binom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te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trinom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g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the highest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ending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the terms, starting with the highest exponent (pow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ding polynomia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using the vertical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+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+x-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using pare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-2)+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to combine like term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btracting polynomial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vertical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10x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-            -5x+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arenthe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x-2)-(3x-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 the rules about subtracting negativ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the product of a monomial and a polynomial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distributive property to multiply each term in the polynomial by the monom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(x-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x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the product of two polynomials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distributive proper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FOIL (binomials on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mpleting the squ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vertical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23:46:02Z</dcterms:created>
  <dc:creator>nuhs</dc:creator>
  <dc:description/>
  <dc:language>en-US</dc:language>
  <cp:lastModifiedBy>nuhs</cp:lastModifiedBy>
  <dcterms:modified xsi:type="dcterms:W3CDTF">2007-09-13T15:59:39Z</dcterms:modified>
  <cp:revision>4</cp:revision>
  <dc:subject/>
  <dc:title>Algebra 2a</dc:title>
</cp:coreProperties>
</file>